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FFE-BC12-4B04-81D3-7170A117FD9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62120" y="5716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6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ly state the purpose and characteristics of ethnographic research, and describe the ethnographic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describe the different types of ethnographic research, and describe ethnographic research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places an emphasis on exploring the nature of particular social phenomena, rather than setting out to test hypotheses about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nvestigates a small number of cases, perhaps just one case, in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uses data analysis procedures that involve the explicit interpretation of the meanings and functions of human a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pretations occur within the context or group setting and are presented through the description of the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requires that researchers be reflective about their impact on the research site and the cultural gro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offers interpretations of people’s actions and behaviors that must be uncovered through an investigation of what people do and their reasons for doing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built on points of understanding and misunderstanding that occur between researcher and particip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not provide an exhaustive, absolute description of anyth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several forms of ethnographic research found in education.  Three of the most common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ethn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politicized for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st ethn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 case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tion is a multi-instrument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worthiness in qualitative data is established through triangu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ers engage with two primary purpo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e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age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ticipant observer may try to see and do too much. It is advisable, however, that they do less but do it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participant o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searchers often negotiate roles as teachers’ ai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ileged, active o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searcher may serve as an aide but is able to step back and forth within the role providing opportunities for obser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ve ob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esearcher only observes, no active ro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ing entry and maintaining ra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what you are planning to 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time constraints and informants’ commi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how the study will benefit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onsiderate and thoughtfu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good working rap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ipro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asked to help in the se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asked to pay for informants’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asked to help with curriculum or may be asked to consult on other iss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boundaries and honestly convey your strengths and abil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lerance for 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‘nothing happens’ so ethnographic researchers must be pat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determination and effic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find yourself challenged to adequately reflect what you are observing.  Have faith in yourself and record everything you 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ic research is also called ethn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y is the study of cultural patterns and perspectives of participants in their natural sett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engage in long-term study of particular phenomena to situate understandings in con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generally engage in intensive participant observ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Techniq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lines for participant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ing go of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is out of your control as an ethnograp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nticipated events occur regularly for which you will be unable to prep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with the f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eld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gathered, recorded, and complied on-site during the course of a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a record of the researcher’s understa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the primary tool for ethnograp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should be recorded as soon as possible after the observational epis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tail in field notes v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ttings serve as mnemonic devices to facilitate re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are for the ethnograp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field notes is to descri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should be detailed and concr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tamps in field notes facilitate description and understa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otes may include information other than text (e.g., maps, drawing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s between quotes and paraphrases should be clear in field no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nts’ own words should be used in field notes when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field notes, description and interpretations should be distinguish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observe and record everything that they c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look for contradictions and paradoxes in the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seek to look on everyday experiences with new ey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ers gather information from different perspec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oal of ethnographic research is to describe, analyze, and interpret the culture of a group, over time, in terms of the group’s shared beliefs, behaviors, and langu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lture: Set of attitudes, values, concepts, beliefs, and practices shared by members of a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lcott (1999) identified three conceptual areas that help to focus ethnographic researchers as they address 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ori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space where group resides and activities in which the group eng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know-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ily activities of a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belie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group does what it do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first determine that he or she has the time, access, experience, personal style, and commitment to undertake an ethn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nographic research takes extended time (e.g., ‘full cycle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identify the purpose of th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then demonstrates the relevance of the proposed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next decides on the site and sample for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then negotiate and gain entry into the research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attend carefully to confidentiality and anonym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thnographer must establish rapport with the collabora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hnographic Research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, the ethnographer begins data col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ers with general ethnographic questions (e.g., What is going on her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first he eases into the setting and refrains from asking participants ques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st steps in the ethnographic research process include analysis and interpretation of the data and writing the ethnographic rep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arried out in a natural setting, not a labora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nvolves face-to-face interaction with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presents an accurate reflection of participants’ perspectives and behavi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uses inductive, interactive, and repetitious collection of unstructured data and analytic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racteristics of Ethnographic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re primarily collected through fieldwork experi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thnographic research typically uses multiple methods for data collection, including conducting interviews and observations and reviewing documents, artifacts, and visual mater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frames all human behavior and belief within a sociopolitical and historical con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uses the concept of culture as a lens through which to interpret resul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9:38:42Z</dcterms:modified>
  <cp:revision>97</cp:revision>
  <dc:subject/>
  <dc:title>AutoCAD Architecture 2008: Part I: Getting Started</dc:title>
</cp:coreProperties>
</file>